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218-29A5-4BDD-AC15-CC6CB521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B8B-9D4A-422A-BBDD-0350675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1B50B-E758-44E2-9564-FB2B163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BA4B2-7879-4FEF-92DF-5AA90A7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66BA0-6F1C-4B05-B2F6-08CF901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8F2E6-78FF-456B-86E1-B86722A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61DAD-0402-4F9C-938D-75C08F9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CB1D8-56C2-4332-9111-B05932A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CD268-B3F3-4573-BAEA-8E978CF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11EB1-CEF4-4036-AE6A-45973C7D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0F2BE-69E0-4CFA-8BB6-61C5AB4E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F9879-963E-4A42-9CCA-8D938967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F59-C95D-4938-BA6D-9F9996A8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7DCEA-138D-4118-91C6-BAEC7D4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EB548-A1E0-47DB-9EE4-F93BDE0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EBCF-E94D-4324-B91A-C0854954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2C869-94DE-496B-B73C-D1EACCA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2E1A-323A-488E-831A-AD515614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0D0D2-873F-4863-B802-39A95364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E57B5-F551-47B5-A7CF-4DA50AA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5B453-CA08-4533-A4C6-DCD91A6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A3F9D-66F3-47DB-A099-59F3563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FE97F-D9CD-4303-B3E5-0B19B802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2EB-B078-40B5-BC45-EF6F2C43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4426-1E8F-4480-B08F-7AFE6539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D9B7-2499-42A3-B460-EB507C6E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1839-9C02-4835-B971-13B0F50A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5449-EDD5-4F59-A60B-3330DADF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38BA-4E5C-4BDE-8A7E-0937C69A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D5B-9462-4F11-B6B8-61B1E37D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8571-6A51-4E18-AAE9-49424AFB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44D6-5C4C-45B8-B619-ED6564A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D6C-9B7A-49E8-AA38-A8DC2C04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E8E-C152-4133-9433-C987140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2C1-B370-4317-AADD-0C2D2F2A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B56-E167-4542-8DAC-44D6543B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CDFE-7207-4E65-BF87-3373109E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4A1D-406D-4E2D-B070-35ABEF9C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4402-2D15-45BA-80A8-C876F301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B485A-5E28-4C17-954D-51D0E71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2D98-1D55-4CF6-ABBB-D455C7B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5C69C-733F-40C2-8B55-2D9AA12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8477-519F-4A5E-BBF4-4749BB52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887-27E1-4E3B-BA1B-0F6193EB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2314-457C-4EA9-9750-8E8155C2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A5C0-5EC4-4F5C-B081-2E4131C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020FD-F72C-4304-83BA-DA161B6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FACC-0BDD-4B11-A9F3-025F45A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33A5-E9F8-4F82-979A-B93AE32C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FF74-EB0A-4FA7-AE12-2BF3ED83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80E1-3A70-46BD-8E94-5E65073A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D2C0-56E5-4DB8-BDF9-42B61198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B01A-F508-40A5-AF61-3AC269B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2248-96A2-419F-BEFB-FAB351BD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F82-0DC8-4551-89C4-50136878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52773-C1C7-440B-BA5E-60A928B8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53E0-152A-439D-9FDE-16DC9502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56C53-5241-4C71-98DE-E2600EFF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0129-C85E-4E47-A1D8-6E79653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739F-824B-4096-B19E-637A21E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1C9B-2D78-4BA1-8388-816E5CC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7595-FA68-4FFE-8582-9CB7DCA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50F2-5197-478B-B438-3D25D096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CA8F-71E0-454D-B407-BE19F076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7C32-0BD4-4369-97B9-51C3F275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6AB-3701-4488-9669-A8750DA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B73F-1518-4337-8BA9-CBE7FD1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D1C4-8BCA-4B6C-AC62-067D44F4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A6D5-A541-426E-A582-3E583066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2A23-1CF0-4555-A586-2BE977D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9E5E-DB35-46BD-806E-3A303CE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94C3-B4C1-44EB-B18D-561AD60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4D72-2CE4-41E0-9807-491A4B67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61CA-228A-490C-9575-5A82F472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651E-9BD3-4125-AF44-6A0A88D4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ECBD-CDF9-4AF1-9984-91E52BD8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2DB-C728-4B1F-BA56-7097E611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09F25-EEA1-4291-A888-C7FCAF2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46CE-83E8-4D52-8684-C4EA0D5B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491D-E867-4299-B1EC-118BD2D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F7470-3607-421A-9093-49E72940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A633B-BB90-4BFA-B7C3-8E072DF3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77EA-459B-42F3-B4C5-DB9E93F9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8731-FB91-451B-9075-AFA88C56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9CC6-B842-47C2-9027-4C97278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05A6-6594-402A-B209-45FE75F9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3C24-71E1-40E8-8736-E5DAA0B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2EC-B291-4FA7-8854-770E972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F284-06C9-477B-A2F2-3FF6A8CD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E552-9420-4759-946A-E23B6BF4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BA26-AB92-477B-B7DE-F58AD56E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63A513-5644-4A07-836D-C7CBEF25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FB953-F1BF-48F9-943F-6CC52115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5768DA-C5B5-4F5A-9A94-A78F6D2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04DFFA-B9DE-4BC6-A1D6-67140615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CDD160-A308-4066-B9E1-BBA571CD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CB104D-1E1B-45E9-A0C1-1885719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581963-DBE6-473A-85ED-8D55AFC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C88-0CB6-4C9E-A582-049A3E83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296894-B159-47A6-A8C7-149ADD1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1AF347-8708-44A4-9608-CA9407D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4CEBD2-DA9F-4AF9-9231-F138B577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27FE8-83DB-45D3-B730-82BE4D91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497420-4443-4F40-A4C1-C3151613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F25E-73EB-4FF8-B7E8-D09C180F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C21B0-F8CC-47E1-A086-02879454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3281A-8DAB-4911-B546-E7218B7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A486D-B707-4CB4-B45E-100397EF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A5F6B-2E12-4C64-834E-A65B83F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514-1324-481B-A164-D3C7CDB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41CF-A7CF-4034-883D-828F1C79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133A-8999-4025-A0E4-07B8170A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7008-D405-4D46-A957-8608674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57A5F-EA50-402C-A29F-136B953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4FB81-F6A4-4B66-96B0-0E65F97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F2C6-800B-463C-93CD-6E5C02CE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6ECC6-9EBE-4ED5-A9CE-A15C2C8E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1D058-5864-45F9-87FE-5A8A72AD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D4AD-A32F-4679-94AC-B3979A8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AEC7-0685-4180-A2A3-93EC840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594D-9B4F-4EFD-9624-200DD940D5E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5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6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3CF-41B0-4705-A051-88E088D4CB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F1F-2365-4FC8-95E7-AE19462D440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962-582E-4B96-BF5F-E8E1107CD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DD4-6399-44A0-9609-B9AB3D70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8E6-8975-4077-9EB9-1860D721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27B-DF22-4246-9148-F4C78F48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6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2F4-9279-4086-AF3E-2C827084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2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B40-D087-4DD9-9B62-30B573DC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8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BC2-94A5-4E2D-9AFC-619A51ABCA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enry’s Freedom Box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old by:Marcell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" descr="Henry’s F...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20968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1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381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wasn’t sure how old he wa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4114800" y="5089680"/>
            <a:ext cx="2200320" cy="176832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6.93642E-007 C -0.00799 -0.0007 -0.01598 -0.0007 -0.02379 -0.00231 C -0.02883 -0.00347 -0.03317 -0.00856 -0.03803 -0.01064 C -0.05001 -0.01596 -0.06251 -0.01596 -0.07449 -0.02127 C -0.08907 -0.02775 -0.09775 -0.03283 -0.11268 -0.03607 C -0.11997 -0.03931 -0.12761 -0.04116 -0.1349 -0.04439 C -0.14758 -0.05896 -0.15799 -0.06752 -0.17449 -0.07191 C -0.1856 -0.08648 -0.19393 -0.10127 -0.20955 -0.1059 C -0.22622 -0.12324 -0.21858 -0.11653 -0.23178 -0.12694 C -0.28178 -0.12093 -0.22101 -0.12763 -0.33334 -0.12278 C -0.34931 -0.12208 -0.38091 -0.1163 -0.38091 -0.1163 C -0.38508 -0.11491 -0.38924 -0.11307 -0.39358 -0.11214 C -0.40001 -0.11075 -0.41268 -0.10798 -0.41268 -0.10798 C -0.44827 -0.09226 -0.42292 -0.1015 -0.50157 -0.10359 C -0.51789 -0.10659 -0.53021 -0.10867 -0.54758 -0.11006 C -0.55747 -0.11376 -0.56667 -0.11838 -0.57622 -0.12278 C -0.58455 -0.12648 -0.58195 -0.12347 -0.59202 -0.12694 C -0.60747 -0.13226 -0.62049 -0.13942 -0.63646 -0.14174 C -0.64289 -0.1452 -0.64827 -0.14728 -0.654 -0.15237 C -0.66928 -0.19307 -0.66841 -0.23399 -0.67136 -0.27908 C -0.67292 -0.30266 -0.67917 -0.32717 -0.6856 -0.3489 C -0.68681 -0.36463 -0.68612 -0.37087 -0.69202 -0.38266 C -0.69341 -0.39931 -0.69688 -0.41295 -0.70001 -0.42913 C -0.70053 -0.44416 -0.70938 -0.50544 -0.69046 -0.51376 C -0.68455 -0.52601 -0.66303 -0.54937 -0.65226 -0.55399 C -0.61737 -0.5526 -0.58247 -0.5526 -0.54758 -0.54983 C -0.54601 -0.5496 -0.52431 -0.53989 -0.52223 -0.53919 C -0.50417 -0.53364 -0.48612 -0.52786 -0.46824 -0.52231 C -0.45921 -0.51954 -0.45192 -0.51399 -0.44289 -0.51168 C -0.42813 -0.51307 -0.41285 -0.51145 -0.39844 -0.51584 C -0.39376 -0.51723 -0.39011 -0.52254 -0.3856 -0.52439 C -0.3698 -0.5385 -0.35383 -0.5415 -0.3349 -0.54335 C -0.32483 -0.54775 -0.31355 -0.55006 -0.30313 -0.55191 C -0.28004 -0.56208 -0.25435 -0.5563 -0.23004 -0.56023 C -0.20001 -0.57387 -0.23369 -0.55977 -0.19514 -0.57087 C -0.18716 -0.57318 -0.17917 -0.57619 -0.17136 -0.57942 C -0.16754 -0.58104 -0.16407 -0.58428 -0.16025 -0.58567 C -0.15504 -0.58775 -0.14949 -0.58775 -0.14445 -0.58983 C -0.14289 -0.59052 -0.14115 -0.59122 -0.13959 -0.59191 C -0.129 -0.58728 -0.12379 -0.58058 -0.11424 -0.57295 C -0.09896 -0.56046 -0.0823 -0.55006 -0.0698 -0.53272 C -0.06372 -0.53318 -0.03542 -0.53572 -0.02692 -0.53711 C -0.01719 -0.53873 -0.00851 -0.54382 0.00156 -0.54544 C 0.01371 -0.54474 0.02604 -0.54451 0.03819 -0.54335 C 0.03975 -0.54312 0.04288 -0.54127 0.04288 -0.54127 E">
                                      <p:cBhvr>
                                        <p:cTn id="12" dur="2000" fill="hold"/>
                                        <p:tgtEl>
                                          <p:spTgt spid="1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4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4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00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th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 and his brothers and sisters worked in the big house where the master li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000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50000">
              <a:srgbClr val="fae3b7"/>
            </a:gs>
            <a:gs pos="100000">
              <a:srgbClr val="fbe4a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’s master had been good to him and his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4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4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000" fill="hold"/>
                                        <p:tgtEl>
                                          <p:spTgt spid="1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the master called for Henry and his mother. Henry's master was very 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9000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nry’s doctor let him free and sent him to Philadelph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1"/>
          <a:stretch/>
        </p:blipFill>
        <p:spPr>
          <a:xfrm>
            <a:off x="6934320" y="4919760"/>
            <a:ext cx="2209680" cy="193824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2209680" y="5254560"/>
            <a:ext cx="3719520" cy="16034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4104E-006 C -0.00817 -0.00693 -0.00435 -0.00948 -0.01442 -0.01271 C -0.02675 -0.03468 -0.05192 -0.06774 -0.07154 -0.07607 C -0.08143 -0.08485 -0.08647 -0.0978 -0.09376 -0.10982 C -0.10157 -0.12254 -0.11234 -0.13202 -0.12067 -0.14381 C -0.12397 -0.15722 -0.11963 -0.14265 -0.12709 -0.15653 C -0.13768 -0.17618 -0.12223 -0.15422 -0.13508 -0.17133 C -0.13907 -0.19306 -0.13577 -0.18335 -0.14445 -0.20092 C -0.14741 -0.21156 -0.14966 -0.22265 -0.154 -0.2326 C -0.15852 -0.243 -0.15661 -0.23468 -0.16043 -0.24739 C -0.16425 -0.26034 -0.16563 -0.27329 -0.1731 -0.28323 C -0.17536 -0.29248 -0.17831 -0.29896 -0.18265 -0.30659 C -0.18508 -0.31976 -0.18977 -0.33317 -0.19532 -0.3445 C -0.19741 -0.35306 -0.19949 -0.36046 -0.20331 -0.36786 C -0.20452 -0.37433 -0.20695 -0.38034 -0.208 -0.38682 C -0.20973 -0.39653 -0.20991 -0.40647 -0.21112 -0.41641 C -0.21216 -0.44346 -0.20886 -0.45317 -0.21754 -0.47144 C -0.2198 -0.48323 -0.22362 -0.49225 -0.22709 -0.50312 C -0.23074 -0.51398 -0.23195 -0.52578 -0.23508 -0.53687 C -0.23925 -0.57109 -0.24254 -0.60878 -0.22223 -0.63422 C -0.21129 -0.66335 -0.22727 -0.62289 -0.21442 -0.64901 C -0.21355 -0.65086 -0.2139 -0.65364 -0.21286 -0.65526 C -0.20227 -0.67213 -0.20088 -0.6756 -0.18734 -0.67861 C -0.17727 -0.683 -0.16737 -0.68901 -0.1573 -0.69341 C -0.15279 -0.70173 -0.14706 -0.70589 -0.14133 -0.71237 C -0.13959 -0.71422 -0.13855 -0.71699 -0.13664 -0.71884 C -0.13473 -0.72069 -0.13247 -0.72185 -0.13022 -0.723 C -0.12709 -0.72462 -0.12067 -0.72716 -0.12067 -0.72716 C -0.09845 -0.72647 -0.07622 -0.72763 -0.054 -0.72508 C -0.04862 -0.72439 -0.04497 -0.71676 -0.03977 -0.71445 C -0.0297 -0.71005 -0.01963 -0.70659 -0.00956 -0.70173 C 0.00068 -0.68832 0.00971 -0.67445 0.02049 -0.66173 C 0.02361 -0.65803 0.02917 -0.64901 0.03333 -0.64693 C 0.03629 -0.64554 0.03958 -0.64554 0.04271 -0.64485 C 0.12344 -0.65086 0.10243 -0.64046 0.14115 -0.65965 C 0.14601 -0.66612 0.14983 -0.67398 0.15556 -0.67861 C 0.16962 -0.68971 0.18385 -0.70312 0.19358 -0.72092 C 0.19635 -0.73896 0.1974 -0.74104 0.19514 -0.76323 C 0.19271 -0.78843 0.1658 -0.80832 0.15069 -0.81803 C 0.14184 -0.83052 0.15608 -0.81202 0.13958 -0.8245 C 0.13802 -0.82566 0.1375 -0.82867 0.13646 -0.83075 C 0.1349 -0.83375 0.13316 -0.83653 0.1316 -0.8393 C 0.12778 -0.85965 0.13212 -0.86705 0.14601 -0.87306 C 0.16719 -0.87167 0.18837 -0.8719 0.20938 -0.8689 C 0.21563 -0.86797 0.22622 -0.85687 0.2316 -0.8541 C 0.23993 -0.84994 0.25156 -0.84878 0.26024 -0.84554 C 0.26285 -0.83838 0.26389 -0.8319 0.26823 -0.82659 C 0.27222 -0.81572 0.27778 -0.79283 0.27778 -0.79283 C 0.27865 -0.78543 0.28194 -0.77896 0.28247 -0.77156 C 0.28385 -0.74913 0.28212 -0.72647 0.28403 -0.70404 C 0.28438 -0.70104 0.28715 -0.69965 0.28889 -0.69757 C 0.29566 -0.68971 0.29948 -0.68601 0.30469 -0.67653 C 0.30729 -0.66242 0.30972 -0.65664 0.32049 -0.65317 C 0.33004 -0.65387 0.33958 -0.65341 0.34913 -0.65526 C 0.35174 -0.65572 0.35504 -0.66196 0.35712 -0.66381 C 0.36563 -0.6719 0.37431 -0.68439 0.38403 -0.68924 C 0.38698 -0.69526 0.39045 -0.70265 0.39045 -0.71028 E">
                                      <p:cBhvr>
                                        <p:cTn id="41" dur="2000" fill="hold"/>
                                        <p:tgtEl>
                                          <p:spTgt spid="1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6994E-006 C -0.00521 -0.00162 -0.01059 -0.00231 -0.0158 -0.00416 C -0.02222 -0.00647 -0.02882 -0.00879 -0.0349 -0.01272 C -0.03698 -0.0141 -0.03906 -0.01595 -0.04132 -0.01688 C -0.04392 -0.01803 -0.04653 -0.01803 -0.04913 -0.01896 C -0.05399 -0.02081 -0.06354 -0.02543 -0.06354 -0.02543 C -0.06701 -0.0289 -0.07136 -0.03029 -0.07465 -0.03376 C -0.07622 -0.03538 -0.07656 -0.03838 -0.07778 -0.04023 C -0.08351 -0.04902 -0.08924 -0.05942 -0.09531 -0.06751 C -0.10451 -0.08 -0.09549 -0.0615 -0.10642 -0.08023 C -0.10833 -0.08347 -0.10972 -0.08717 -0.11111 -0.09087 C -0.11181 -0.09295 -0.11129 -0.09572 -0.11267 -0.09711 C -0.11545 -0.09965 -0.1191 -0.09965 -0.12222 -0.1015 C -0.13351 -0.10821 -0.14445 -0.11561 -0.15556 -0.12254 C -0.17622 -0.13572 -0.19392 -0.15723 -0.2158 -0.16694 C -0.22448 -0.1778 -0.22969 -0.17827 -0.24132 -0.1859 C -0.26076 -0.19884 -0.24254 -0.19168 -0.25712 -0.19653 C -0.27969 -0.21665 -0.25642 -0.19676 -0.27309 -0.20925 C -0.27604 -0.21156 -0.27778 -0.21619 -0.2809 -0.2178 C -0.28542 -0.22012 -0.29063 -0.21988 -0.29531 -0.22197 C -0.30122 -0.22728 -0.30764 -0.22936 -0.31424 -0.2326 C -0.3217 -0.23191 -0.32917 -0.23191 -0.33646 -0.23029 C -0.34531 -0.22821 -0.35451 -0.21896 -0.36198 -0.21341 C -0.37083 -0.20671 -0.38125 -0.20393 -0.39045 -0.19861 C -0.40243 -0.19168 -0.41267 -0.18173 -0.42535 -0.17757 C -0.43924 -0.16509 -0.45451 -0.16023 -0.46979 -0.15214 C -0.48472 -0.15353 -0.49792 -0.15584 -0.51267 -0.15861 C -0.53056 -0.16647 -0.54792 -0.17549 -0.56667 -0.17965 C -0.58576 -0.18821 -0.60538 -0.20925 -0.62222 -0.22405 C -0.62413 -0.22775 -0.62708 -0.23052 -0.62865 -0.23468 C -0.6349 -0.2511 -0.6257 -0.23653 -0.63333 -0.2474 C -0.63715 -0.26751 -0.6316 -0.24301 -0.63976 -0.26428 C -0.64271 -0.27214 -0.64323 -0.27884 -0.64757 -0.2874 C -0.65 -0.29757 -0.65556 -0.30289 -0.66198 -0.30867 C -0.6691 -0.32324 -0.66458 -0.31977 -0.67309 -0.32347 C -0.68142 -0.34012 -0.67049 -0.32 -0.6809 -0.33387 C -0.6875 -0.34266 -0.68108 -0.33827 -0.68733 -0.34867 C -0.68941 -0.35214 -0.69323 -0.35376 -0.69531 -0.35723 C -0.7 -0.36462 -0.70538 -0.37272 -0.70955 -0.38058 C -0.71528 -0.39098 -0.72014 -0.40254 -0.72691 -0.41225 C -0.72865 -0.4185 -0.7309 -0.42543 -0.73333 -0.43121 C -0.73524 -0.43561 -0.73976 -0.44393 -0.73976 -0.44393 C -0.74167 -0.45387 -0.74497 -0.4696 -0.74913 -0.47769 C -0.75313 -0.49827 -0.75087 -0.48925 -0.75556 -0.5052 C -0.75868 -0.5526 -0.75799 -0.53225 -0.75556 -0.61087 C -0.75504 -0.62775 -0.75573 -0.62428 -0.75087 -0.63422 C -0.74861 -0.64509 -0.74722 -0.64416 -0.74132 -0.6511 C -0.73056 -0.66405 -0.73542 -0.66335 -0.72379 -0.66798 C -0.71962 -0.6696 -0.71111 -0.67214 -0.71111 -0.67214 C -0.70504 -0.68069 -0.69445 -0.68254 -0.68576 -0.68486 C -0.66979 -0.68416 -0.65399 -0.68393 -0.63802 -0.68277 C -0.62795 -0.68208 -0.62049 -0.66867 -0.61111 -0.66382 C -0.6007 -0.64994 -0.60504 -0.65434 -0.59201 -0.64902 C -0.58872 -0.64763 -0.58247 -0.64462 -0.58247 -0.64462 C -0.57483 -0.6296 -0.56076 -0.63769 -0.54913 -0.64254 C -0.54445 -0.64185 -0.53958 -0.64162 -0.5349 -0.64046 C -0.5316 -0.63954 -0.52535 -0.6363 -0.52535 -0.6363 C -0.49306 -0.63699 -0.46076 -0.6363 -0.42865 -0.63838 C -0.42708 -0.63838 -0.4257 -0.64069 -0.42535 -0.64254 C -0.42118 -0.66289 -0.42379 -0.66058 -0.41754 -0.67861 C -0.41007 -0.70035 -0.39809 -0.71699 -0.38576 -0.73341 C -0.3842 -0.74012 -0.3842 -0.75121 -0.3809 -0.75676 C -0.37014 -0.77457 -0.35781 -0.7889 -0.34132 -0.79491 C -0.30017 -0.79214 -0.31736 -0.79538 -0.29688 -0.78636 C -0.29445 -0.78312 -0.29097 -0.78127 -0.28889 -0.7778 C -0.2875 -0.77549 -0.28715 -0.77202 -0.28576 -0.76948 C -0.2849 -0.76786 -0.28333 -0.76694 -0.28247 -0.76532 C -0.27795 -0.75792 -0.27743 -0.75168 -0.27136 -0.74613 C -0.26892 -0.73942 -0.26823 -0.73711 -0.26511 -0.73133 C -0.26198 -0.72555 -0.25556 -0.71445 -0.25556 -0.71445 C -0.25504 -0.71098 -0.25538 -0.70705 -0.25399 -0.70382 C -0.24531 -0.68324 -0.22031 -0.67977 -0.20469 -0.67422 C -0.2033 -0.67283 -0.18941 -0.65942 -0.18576 -0.65318 C -0.17743 -0.63838 -0.18542 -0.64555 -0.17465 -0.63838 C -0.16441 -0.64162 -0.15504 -0.64324 -0.14445 -0.64462 C -0.13333 -0.64786 -0.13889 -0.64578 -0.12691 -0.6511 C -0.12535 -0.65179 -0.12222 -0.65318 -0.12222 -0.65318 C -0.11823 -0.66127 -0.1191 -0.65688 -0.1191 -0.6659 E">
                                      <p:cBhvr>
                                        <p:cTn id="45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5000" fill="hold"/>
                                        <p:tgtEl>
                                          <p:spTgt spid="1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21:55Z</dcterms:created>
  <dc:creator>test</dc:creator>
  <dc:description/>
  <dc:language>en-US</dc:language>
  <cp:lastModifiedBy>test</cp:lastModifiedBy>
  <dcterms:modified xsi:type="dcterms:W3CDTF">2011-03-28T13:43:24Z</dcterms:modified>
  <cp:revision>9</cp:revision>
  <dc:subject/>
  <dc:title>Henry’s Freedom Box</dc:title>
</cp:coreProperties>
</file>